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FFD-9183-443E-A40C-FB6AE1E5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A27-F19A-405B-AB13-289ED9C4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77799-268D-4968-94DA-EAB718D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1D021-57EB-42FB-8A7B-7F9798BB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80C5C-2078-4BE3-975D-F9AB5010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4118C-6E89-4132-A6A9-5E4A605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23903-77E7-46E1-B834-841813A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527B-8BD0-4144-80DA-903076D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DACDE-59D8-4467-81E8-37C36A6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33D08-EE3F-4D50-BE27-11869B19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4533-29A5-4000-BF0B-F64EB165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1F6E7-F145-4867-BABE-A0270F09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A4B-EE02-490C-A7AD-A99FFF3C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F615A-464D-446E-B91E-D8A4AA1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92563-2BA0-40D2-9658-9887F1B5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010C-20FF-4665-9C4B-C284CFB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20565-F99B-43E9-A8A3-19F4249B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4F034-B067-4FD9-904D-7ADC5A67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24CD6-0C94-4B3E-8A0E-D2354FB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1838B-ADF9-4989-A91C-1F16CF3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733F-13E4-409A-8708-1436E7BA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A0A21-CABC-43C1-9677-4CEDF70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42AC2-6E08-43B9-9689-83F0B745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4FE-2356-4CB9-B380-82C46708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A0D11-8DE7-494B-9775-66776B97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A42DF-883A-4C28-B76A-8FD89AD5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93FF-348D-47D6-AF51-C1918A3D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90783-FC52-4028-BEFF-FFFB4795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157DF-22AB-4071-AB4E-524F68FD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03044-B1C7-4F9C-9BA3-E1F87A4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BBFB3-C16C-4BF7-803A-62E0536F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FCFEE-7918-4D82-B9D2-DF8AF1B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544DF-1AF8-401E-92F6-88DA296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7160-9E52-4FC7-A73B-7E20DF8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B53A-E81F-47F9-97BE-ECAEC2FC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660CD-7E92-4703-9DAE-4E0242F1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BF2C5-B71D-4D05-93E7-E4EC1D47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B5458-D45B-49F8-A313-7D89054F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EA662-C8D0-4AA0-A79E-EFB94DE2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F923C-FDA7-4933-9FED-916E90E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6EDDF-15A1-4A8F-ADA3-EF9FC7C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6E390-F4CD-4518-94DC-09728C69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15A87-C12F-4D67-892F-E750B3E4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8B7C1-DBC4-450E-942D-5061F1E0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461B8-127C-45E6-A0FF-8EEF9F1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7EA-F02A-463D-965C-ECCF4522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94DD2-510B-4DC8-A873-C4A6509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F36C2-6784-4433-BDAF-F20CC601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70753-8151-4779-A4A5-BAF7DB41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31EF3-D526-48E9-A384-4F072AB0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8049-F68E-488C-A94E-3EA63996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D6F-6ECA-48C5-B469-28F61D3D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69E1-3120-4AB3-BA26-6F892B39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1F1-07D4-4BF9-BA17-0EE8A94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B210-8372-437A-B805-C68D095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CF5A-8AF6-46E6-A922-DC12825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75A-7195-4D59-B8A8-819934A0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97D9-99B8-449F-83E6-8C1C82E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FE0-F21C-4E55-B59D-971A868F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287-126D-47C1-976A-A5AAB86A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1D7-F827-4B45-B4CA-30F5ECC2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347A-A36E-48D5-B61C-395D67A0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B271-C77B-4A6F-A5A9-8B7B1A7A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12EE-069E-44A4-A839-A5B3C291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6EC1-1C63-4DB9-B6FA-2F90E8E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C20C-E2E9-4BAF-90CC-BA240E5A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9EF3-FB32-44E5-B2F0-3DDC3A7D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412-113A-4E4A-BFF7-4F26D81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DFA8-CB65-404D-88B1-0CD1828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E397-1CBB-47BF-8138-DFCCE36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CD0A-7EA5-44FE-A709-4425EBC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FC7F-9AA3-4F93-A84C-91E873C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B91C-B385-427E-94BB-AF6CD937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7186-E02D-45C7-9AFB-1F58C3C7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D958-6959-443E-9379-9FD81838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3923-F0BC-4015-997C-50D49B35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2B59A-F069-4FBF-BEC2-B7E0C8F9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1511-7C5F-4437-B93D-CB70A03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008-59BD-42CB-834C-E0460DED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26DB-0E19-4D33-AD30-498881D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8F2D-9B5C-44B3-B1FA-EB4E598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C9F9-10B8-4E14-85F9-7A42CE6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4782-A9BB-43A7-B5BC-DEE2F90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1102-BB42-4B72-A3D7-01F52F1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0DC2-3D7E-42D4-9D6F-8013959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5413-CEBF-4149-B2F0-CF2986C6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B568-F5E6-4B3B-A8AC-A2B84EC2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2A3E-B8B1-45F1-B7FA-240DCDEF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DA02-AB01-49EB-B428-C1678F03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3E9-BA25-49F7-8856-B92465E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2BC3-883A-43AC-BB30-50C7C45A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46529-A959-4540-BC68-B0C4FC72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6795-AB7D-4B38-8E06-431CEE24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7518-7A56-4FF0-AEE6-8A5DFDFD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3418-8C58-481C-A879-7ECCEF1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98ED-D9AD-45AE-BF14-666BD2F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02E4-60E9-4B5F-B487-48B6EE2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8F8C-CCEC-4915-992F-5AF4DF7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06C0A-316C-4E2B-82C5-53814931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420C-99C9-4AD2-84E3-E5F8B3EB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3E0-E2EC-4481-A309-86B51B1D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79D1-054E-4E21-A4AC-B4B1BA0B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0162-66BF-404A-8F16-7C55D32C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98E0-03AA-4278-8847-A321DE4D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5255-2121-40FE-BD82-DB4DEF6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6A5A-FC74-4C69-86D3-B3B74B3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865CB-C03B-4246-A9D5-275A0E78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2CB21-C429-448C-9CAC-9E8984FC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2E1C5-148D-4842-9AE1-6D67816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B9CC3-445C-4C2D-A059-56E0E99C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866EE-1952-4838-9FF6-944A7E9E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022-56FF-48A8-ACFA-AD54E61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54317-4BC3-4F46-8028-A829471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3FC09-AB8E-48E7-81AB-9E50088C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AAFA-3C57-49FC-BBCD-DD1AA830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64B40-9956-4AB5-AAD1-54520BF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8E59C-7136-463D-ABE3-ECE8833F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2AC5-5C79-445B-AF77-67D2DFD6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FBF38-6665-44C2-ADD7-2EB80C7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F1EC1-2AFA-4380-80BA-8A792707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AF6F3-E508-425A-B55C-A5A34FFE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C153-10BD-4A79-AB6D-A947472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166-634C-4AA4-806C-5298EBA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E7498-A31C-47EB-98B6-886B0414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DA6D4-0E1F-4826-9CC7-CDC64F4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5F9D-70B2-4696-9A36-7032067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C2D15-ABED-403A-B01F-181D821A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EC5D2-E3DB-4972-9D85-14C8BD23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27E54-5C33-4246-8FDD-1DACB6B7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EDC7-2964-4473-BA78-E46707B5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0FF0-D78E-4A02-B433-0114B081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029DD-0AF7-47B3-8ACB-1A64B5B5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48DB-C0AB-43A3-B146-3A16A39E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314-C980-48F6-923A-C03DF9A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39CA9-5AD3-4CBF-8705-8241B1C8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8F629-06FC-407C-8490-A1EE133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FD7F2-FAB0-460A-BD7F-91BF358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F4B71-9F24-4AA5-9169-FE63D16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EAB2-2CE7-4506-98F7-B793FF9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6AE46-39F9-4170-AF1E-C0CBEDA8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76F5-AAC9-4914-9E86-4B505E18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A51D7-D094-4050-B39B-EE1074E6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A202A-D1A0-4718-B459-095FA32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A3CB-F10D-4EFA-855B-CB6BF14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A43-865A-420D-B095-2453110ADC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726-842F-441E-8810-3F1B995EBE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CE2-9584-4E9A-BF4C-D9B6DA93CC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419-EA2B-4001-AF57-E817450D66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F29-2E56-4700-AA37-2E996031BF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AEE-E410-449E-9E00-9EB2F9E169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D0C6-4ED9-49A8-BE19-E6E36A6355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7AE2-3A13-428B-97B8-31D4BF0D2F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53FE-8B1A-459B-B9CC-E5C3F08393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480-35A2-44FC-8F54-A7DA58D2E4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26B-3E60-42ED-8A05-0AEE076B5D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DFA-66B1-45D3-8BC0-E56D238218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7 Sobotný deň sa lúči z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botný deň sa lúči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torom nás Pánov lásky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živých vôd viedol prameň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ich slov chlebom sýtil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, čo nám dal tento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nesme obeť na oltá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iedmich dňoch týždňa nov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, žime pre 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zácny sľub nám zanech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re nás príde ako Krá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obotný deň navždy s 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me sláviť s nadšen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58:38Z</dcterms:modified>
  <cp:revision>12</cp:revision>
  <dc:subject/>
  <dc:title>Je veľký náš Pán, on slávy je Kráľ Nech do všetkých strán  spev vrúcnych znie chvál.</dc:title>
</cp:coreProperties>
</file>